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4E4-21C5-4E3B-90BD-1844690E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E8F-A08C-40C0-9D1E-7F0AFB7A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5AE-9356-44FF-A930-F6D9ABAB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616-2CD5-4D94-B825-1E05F2E5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09E-720D-47B6-A325-C309E46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544-2F14-426D-915D-435CDF0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BAF-BEC3-4E95-8650-292C837C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2E5-6E3C-477A-BB8D-E0DD3207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6EA-0627-4985-836E-7704E8D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F4F-014E-4741-9897-3968A61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FE7-4FC2-4FB9-8803-5DD074E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B61-F695-4705-8808-A97CA673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3A1-8215-47FD-8289-0CEF893E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cottsdalecc.edu/green/images/Recycle_1_.jpg" TargetMode="External"/><Relationship Id="rId2" Type="http://schemas.openxmlformats.org/officeDocument/2006/relationships/hyperlink" Target="http://kr.youtube.com/watch?v=djSWPET40Ro" TargetMode="External"/><Relationship Id="rId3" Type="http://schemas.openxmlformats.org/officeDocument/2006/relationships/hyperlink" Target="http://www.recyclingtoday.com/articles/article.asp?ID=3298&amp;IssueID=71" TargetMode="External"/><Relationship Id="rId4" Type="http://schemas.openxmlformats.org/officeDocument/2006/relationships/hyperlink" Target="http://sustainablog.org/files/2007/12/paper.png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 Recycl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440" y="55627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Jennifer Ry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11480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Paper R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3500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Recycling Industry take up a large part of the whole paper indus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74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one million people are involved in recycl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039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ottsdalecc.edu/green/images/Recycle_1_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aceee.org/pubs/ie962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rccompany.co.kr/bizinfo/business02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repaper.co.kr/http://www.teachersdomain.org/resource/ess05.sci.ess.earthsys.recycledpape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eachersdomain.org/resource/ess05.sci.ess.earthsys.recycleplan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r.youtube.com/watch?v=djSWPET40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ecyclingtoday.com/articles/article.asp?ID=3298&amp;IssueID=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images.google.co.kr/imgres?imgurl=http://www.pfizer-ehs.co.uk/images/Office-Paper-recycling.gif&amp;imgrefurl=http://www.pfizer-ehs.co.uk/waste.html&amp;usg=__-q4oMfSBJ4h8GpEwOS-5k5O0ktg=&amp;h=272&amp;w=500&amp;sz=18&amp;hl=ko&amp;start=1&amp;sig2=wx-VPTMLrB-N89ombZxk1Q&amp;um=1&amp;tbnid=_Hu5os-pBGOPEM:&amp;tbnh=71&amp;tbnw=130&amp;ei=WIw4SemaCpCksQP795S0BA&amp;prev=/images%3Fq%3Dpaper%2Brecycle%2Bgraph%26um%3D1%26complete%3D1%26hl%3Dko%26lr%3D%26newwindow%3D1%26sa%3D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ustainablog.org/files/2007/12/paper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p://www.me.go.kr/webdata/education/img/Vcgqt018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tudents.uwsp.edu/klemm431/soeportfolio/Recycling_energy_savings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ed for Paper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ase in per capita consumption averaged 1.8% per year from 1960 to 1980, 1.6% per year from 1980 to 1993, and has been projected at 0.6% per year during 1990 to 204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ulp, paper, and paperboard mills account for 95% of energy use in the U.S. paper and allied products industry and about 12% of total manufacturing energy use in the U.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Science of Paper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paper in U.S. has been already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undle of paper as huge as a person can save 15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9520" y="990720"/>
            <a:ext cx="4876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them out and make them into bun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bundles get dissolved into new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781360" cy="173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2781360" cy="173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2781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4440" y="185760"/>
            <a:ext cx="864864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42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hat takes trash to dis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: 2-5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k Pack: 5 y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cups: 20 y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. 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up to fiv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up landfill than any other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paper and cardboard are every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than original and new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 to remove ink from old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value of recycle paper contributes to its shaky economic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rea’s Paper R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Gothic"/>
              </a:rPr>
              <a:t>The use of paper in Korea has been steadily in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Gothic"/>
              </a:rPr>
              <a:t>Ko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produ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Gothic"/>
              </a:rPr>
              <a:t>s 69.6% of the total paer usage in Korea, so it has to rely on import for th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,090 billion won is used for paying imported paper every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% of the whole trash in Korea is pap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0:34:41Z</dcterms:created>
  <dc:creator>Jennifer Ryu</dc:creator>
  <dc:description/>
  <dc:language>en-US</dc:language>
  <cp:lastModifiedBy>Jennifer Ryu</cp:lastModifiedBy>
  <dcterms:modified xsi:type="dcterms:W3CDTF">2008-12-05T03:02:25Z</dcterms:modified>
  <cp:revision>10</cp:revision>
  <dc:subject/>
  <dc:title>Paper Recycling.</dc:title>
</cp:coreProperties>
</file>